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E30-E1E0-41C1-9E84-7671EC17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106-FB6E-434C-84F3-F1BABBD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43D-366C-4BD9-B865-2160B3BF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413-7A7C-4027-B37B-72898E07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356-7401-4B47-8CA1-52AF5590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200-E581-49F4-987E-4BF62685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F48-D462-4A73-8054-1DB0758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050-01F9-45B0-9632-D8763902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E0D-1773-461E-918C-5832C1CF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666-832F-44A8-A4C4-3BB372D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DDC-0CF3-4DC0-A1AC-72280D1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8FE-6EF1-4674-A04A-F1B0498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B1B-2190-46D4-BC6C-E2B13E7C54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1055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0" spc="-1" strike="noStrike">
                <a:solidFill>
                  <a:srgbClr val="ff3300"/>
                </a:solidFill>
                <a:latin typeface="Tahoma"/>
              </a:rPr>
              <a:t>Х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1447920"/>
            <a:ext cx="37339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3300"/>
                </a:solidFill>
                <a:latin typeface="Tahoma"/>
              </a:rPr>
              <a:t>х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22860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1000" spc="-1" strike="noStrike">
                <a:solidFill>
                  <a:srgbClr val="3333cc"/>
                </a:solidFill>
                <a:latin typeface="Tahoma"/>
              </a:rPr>
              <a:t>ризантемы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ris3" descr="Хризантема Перламент"/>
          <p:cNvPicPr/>
          <p:nvPr/>
        </p:nvPicPr>
        <p:blipFill>
          <a:blip r:embed="rId1"/>
          <a:stretch/>
        </p:blipFill>
        <p:spPr>
          <a:xfrm>
            <a:off x="1143000" y="1851120"/>
            <a:ext cx="684036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-380880"/>
            <a:ext cx="752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лопок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0598-0%5B1%5D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3434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леб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READ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8672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-3808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алат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g_0087%5B1%5D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58164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омяк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hamsterismade%5B1%5D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9448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-30492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удожник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HILD4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00100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-30492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вощ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quisetum-sylvaticum%5B1%5D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10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0000" spc="-1" strike="noStrike">
                <a:solidFill>
                  <a:srgbClr val="3333cc"/>
                </a:solidFill>
                <a:latin typeface="Tahoma"/>
              </a:rPr>
              <a:t>олодильни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H01784_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9132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амелеон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350x367%5B1%5D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2514600" y="1905120"/>
            <a:ext cx="444492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3300"/>
                </a:solidFill>
                <a:latin typeface="Tahoma"/>
              </a:rPr>
              <a:t>х</a:t>
            </a:r>
            <a:r>
              <a:rPr b="1" lang="ru-RU" sz="12000" spc="-1" strike="noStrike">
                <a:solidFill>
                  <a:srgbClr val="3333cc"/>
                </a:solidFill>
                <a:latin typeface="Tahoma"/>
              </a:rPr>
              <a:t>оккеист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ockey%5B1%5D" descr=""/>
          <p:cNvPicPr/>
          <p:nvPr/>
        </p:nvPicPr>
        <p:blipFill>
          <a:blip r:embed="rId1"/>
          <a:srcRect l="0" t="31496" r="0" b="0"/>
          <a:stretch/>
        </p:blipFill>
        <p:spPr>
          <a:xfrm>
            <a:off x="1905120" y="1905120"/>
            <a:ext cx="56005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01-04-20T08:08:17Z</dcterms:modified>
  <cp:revision>31</cp:revision>
  <dc:subject/>
  <dc:title>PowerPoint Presentation</dc:title>
</cp:coreProperties>
</file>